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0EAE-C0D6-408A-88CE-3224B66B0E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A643-F625-47C8-BD19-19EEB5279CA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3E9C-A5E4-42F0-B7FA-269731E8BC5B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71CA-748E-4D52-8668-AE3E6421498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D6CD-7274-4943-BEC5-9CF0D9A3E6B5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C65B-620E-4530-9F70-80A52F12AAF2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18CD-6911-448A-9832-525693EA8C1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4558-EFDC-4E36-AFF1-0B7CDE2187B9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C80C-8AD3-4C80-ADAA-0A6BEAEEAD6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58A9-35D9-4BD4-B2BF-4E40841EF85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4F19-E65D-4384-8021-AA5980CEE5D1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2FF-4C00-4AC4-960B-A1B247859336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E672-FF68-4EA9-ADFA-D39B00EAB7C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;  ; ce qui consomme une ressource rare dans un dispositif dont la mission principale n’est pas la médecine d'urgence (rôle dévolu au S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ce qui consomme une ressource rare dans des dispositifs dont la mission principale n’est pas la médecine d'urgence (rôle dévolu au services des urgences publics et privés autorisés par l’ARS) ; ce qui, en outre, n’est pas sans ris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5F08-EBA2-4678-9870-62684922BBC7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2FE3-71F2-4261-90B4-313CF9504D50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E7C7-E22F-4FEE-ABF7-F86885FD46FD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6F75-AD3B-4A1E-9DCD-51E5E9AD7F48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80C-04F1-417C-A816-F097AC70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3B1-EE0C-41C2-8894-BF591F3D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A61BF6-B8F8-4CF4-A4D2-9C9F4A74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F4047F-03A9-4DC5-AD5C-9891DE6B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F8327-FC93-4B23-B676-94FCFB1D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50FBB3-3FF3-4152-B128-469B0D60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6AD33-8297-4FE5-AED9-420AA22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9DEC94-94AA-47DA-BED7-26FF3C03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60550B-404F-4AA4-8AEA-968C87CB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07FCAF-3D18-4388-ABAE-43520BEB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C984EA-D4F5-437F-9879-49042C13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BDC04-CF32-46F8-92AE-F68CAC42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FD1-1017-46EA-ABB7-C36302D7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C1BE08-39CE-40DA-98B3-042D1836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0E58B7-A775-4078-9919-0481EC2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189E4E-E6EB-449A-AD80-4ADE4647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79D4C-DAE0-4690-BF0F-26AB1000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B59DF9-4C02-49B8-9332-ECEF1099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CA3476-91B1-4636-9EE7-C018D1B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F5BE76-CFA9-4A25-B88A-130CCB03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0A5E15-2DD2-4606-9468-C4A23E1E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2E0CFA-6971-40DE-98D0-024B2928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FED389-47E3-40AA-8F93-2EE6993F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938-A4A7-4C56-BA00-195116B6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416DB4-18FC-42AE-84AE-B830D7DB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8FEB7-FF41-4738-95E1-253550A9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BFD14-2A6B-4B76-B0AD-8844FC87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0603C-97D4-4F1C-9A8D-4B3FB7F1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FE9D2-6379-41A1-8335-6C2F95BD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EB990-209A-49BC-ADE7-0709E6E0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DD3D3-8037-438E-886F-0896CD67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5CD7F-F4AA-4104-A23C-AFD8A95B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1E15E-D401-454F-A294-77626B69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DD58A-A04D-4BA9-A041-405BD2E3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0BB9D-3971-44C6-B288-8F3705D3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CF4D5-4F4D-4576-82F7-FF1FCF89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3EFE7-DA14-4243-9EC9-C23F5B6F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201E0-3B15-4B67-AA12-22AB3875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EF9C7-D441-4545-9AFF-12D3E786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3429D-AADD-44B7-9DB8-8C9AC46B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314AB-D0EC-4F29-99C5-7C70E245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6E3B5-C5CE-4582-9D36-F940ACA8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4BBE4-73A6-4900-8532-4DBB4AC4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7C3F5-8855-4A51-B40F-3EC8611B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2F876-81C6-48F0-A8E5-DF92E1E6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6902E-E887-4CA2-9423-B14215E6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749BD-F2EE-4D37-98BF-E05BB1EB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CB832-E9FF-422D-A1DE-816673E8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A356A-38CA-4C3F-8023-E4A7309A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CBD8B-5D81-42C9-8E1D-E914E4A5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DB1AF-7611-4569-A556-CA99D3DB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7FFAC-4326-420C-BC17-6249D27F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23936-32F7-4ED1-88F2-42F9DE5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A95FA-7D1B-46BF-8DF5-68353C7E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00548-5886-4F22-8C34-0DE322D8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E94B4-4F58-4BA3-92B2-7FF2AA9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2ECA-B369-4BCE-8D33-28404761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1CBF6-AB1D-4D36-BE48-786CA3D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A0F6C-AA07-4FE6-A784-8AECC4A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A7813-9DFF-488C-AC6A-E6211C03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BE6F4-F5CE-4DAE-9AA8-A4CD3914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FCCC8-F46A-4D4B-ABC9-EE82D70D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7553-F9E9-4CF0-9E98-CA09F5CC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431E-4072-4AD8-B2E5-3AF6A7A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4BED-5C6A-4F74-9C15-C23C09A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EBDAF-9586-4BBB-97F4-752AAD8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B35E9-AE9E-4BFA-8792-42DA4B0C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A54F-C439-4C89-A7C4-99B1EFF4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EFD5D-7040-46F7-8A51-F26FA7A5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D770-4E9E-480B-97CF-4899ED8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385C-8E79-4D3A-8B42-6B11E3C9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F8BF-827E-4A24-A2E5-66C7B8E2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77A97-FF45-4B0D-B36A-F6BCBDD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6F78-57BF-443E-9E1A-D58954DA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1792-AAD8-4E47-BCCD-683ACFCE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CC7E2-9EFD-4F79-8AFB-4036E9E1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FBCC7-A8F8-4EF8-B494-1663D85F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4EB78-EA58-423F-B7A1-F6C246CE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60D-DB6F-4048-BBB5-99F731B2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0D4D0-13C9-4E1E-8225-3DB9CAD6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4F258E-CD9E-4954-86B2-488644D7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2DC45-7945-466C-8EA8-D5B1C7B3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ED7EB0-7114-484B-8250-4B7D609B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C9A16-7950-4A46-A667-7CF4EBD4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06FF7-8118-472B-8169-B03E805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116A9-D1BE-48B8-A44F-D534C192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403489-DC64-499D-8679-A1F423E8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EF2326-8364-4F35-93A3-C2B165AF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CEC8A-9714-42AE-850D-3C0E20E1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BE0-7A18-4350-9447-94A4EEF1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0E7E9-DD4A-4956-A908-F9959E1C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B29E5-DC96-4998-A7B4-514365D4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871E3-F771-4A2F-B366-E0BC6D48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66C71-8C18-41EB-A7A0-0E8D46F5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7F33-A697-49A2-9F86-7ACD069E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39FE8-2F62-4D84-A816-FE8B4CEA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7F54F-FE81-4591-92D5-08F28286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CCECD-1BEA-4E27-AC55-5FB062E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F9211-113C-4215-90D9-D4CB93EC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BD55-E375-4110-9BEA-B6F3357F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1243-5F47-4A5C-82DA-9BF50349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FF81-5313-4417-AD46-B61ABC9A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A4083-805B-4064-B84B-F911D34F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C924B-AF10-4447-89B9-5874E16E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58F3C-60BF-48ED-A09F-8ECB648F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1FCE3-558F-4960-8310-42C3CA54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95738-DDD0-4581-9101-042937CC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EF8B1-F8B8-49EE-9690-7CED2C4C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3085-C11D-4199-8EAA-B606DD0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1367D-DE4A-44E4-9D58-B44080DD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EAB9-BF2F-4D70-98B0-207F045F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7AB-5DDF-4064-9A55-CBE77DB5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3958A-5D5A-456E-B2AD-5C7E7F61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5DD9A-0279-489A-B5EF-85E9A836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95DC2-1BDE-4291-BFB5-DBFDEA42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B6AAB-93F2-49C8-B0AD-8C66CCEB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56EB1-1D1D-47C3-B0C8-2EAED3D4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4F18B-F1D7-49B9-AA61-488B7555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D5A17-EDDB-4F4F-B7CC-E51B9A3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51139-02F1-4BEC-86E2-DBB74A00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E6427-989E-447F-81BB-8FF22033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D3BCD-7D2B-4832-9954-27567540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91D-B203-4C5F-B391-E663B8C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9CA9F-AF7E-4A36-B43E-6B9C1764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F4994-785B-4BE8-ACDA-1AB85E19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21F74-FCDF-4C39-BB9B-18443438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B35D7-7312-4070-A29D-CBCC463E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2F07-C497-4E3F-ABDE-867D921E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CB05D-3695-4F4B-A22B-C423C9B1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C44F-3C60-48F2-ADCA-D80D5F15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EAED9-8B02-4753-9413-088A4A81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6A657-3FAB-4A49-98C0-5FA87959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7CB0D-12A0-4148-ADF6-705BC1CC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34DB-3896-4007-B509-F4E1FFE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67DFC-AF14-4979-A446-7ED38A58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4E6A4-D8D2-48E3-89C8-166FC257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90230-AD47-4B06-9995-6DFC9B8C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BA67C-27F8-49AD-8276-5276555D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F8314-590A-4CB2-A76D-8E2CBB61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EF27F-BBAA-44EC-A16D-C7E381D0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D24BC-953A-455E-A5C9-EF0A339F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76FF04-BC5E-4F2F-9A02-819790AC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136C6-8E64-47CE-9A5D-CE411897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45A20-BCAD-4F34-A0B4-414D522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0A5-CC95-4441-8B7C-C79CA438FFBF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1249-EADE-40C6-8E9B-95109FB62AA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8F59-8BCA-42C3-B44F-AA5AED87E108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A426-0FF2-4711-B916-ABC335BFDC6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Arrondir un rectangle avec un coin diagonal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A936-DC12-4E52-B4F9-91C15C0FBE1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D5F2-D7B3-40DA-BC03-BD5B989B851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4179-CDE0-48A4-9157-DB71AE99960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1677-21CF-4E0E-8D0F-34622160F2E1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56B5-B819-4CD5-9473-CC1D7AEFA8BA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AE45-B708-4C46-A142-ED00C8DBF547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Arrondir un rectangle avec un coin diagonal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2" name="Arrondir un rectangle avec un coin diagonal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862080" y="6400440"/>
            <a:ext cx="4701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1294920" y="6400440"/>
            <a:ext cx="25671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5f3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6EEC-90C4-4BE4-9410-643AA437EE14}" type="slidenum">
              <a:rPr b="0" lang="en-US" sz="1600" spc="-1" strike="noStrike">
                <a:solidFill>
                  <a:srgbClr val="f5f3e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0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Times New Roman"/>
              </a:rPr>
              <a:t>30 mn / CNUH, 22 jan 2013 /  Marc Gir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B79-7A5A-487C-BEA7-C9E0C3ACBDF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583480" cy="240192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Marc GIROU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conférence territoriale du 95 , le 28 février 20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8dac2"/>
                </a:solidFill>
                <a:latin typeface="Calibri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aisons de santé pluridisciplinair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oordonn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généralistes non regroup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dc097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E9C3-B8E7-4B02-A508-90C417C121EB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évelopper l’usage d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M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filièr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(ex : AVC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artenaria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EHPAD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, Samu-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HAD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A92C-07BE-4FFF-8930-8C7D86BD5A3E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pérations hospitaliè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consultations avancé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équipe d’urgentistes de territo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E0AD-5D32-40C3-8FA6-2B5B6DD45C1D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ompagnement social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our les cas où les problèmes médicaux semblent conditionnés par la situation sociale (solitude, vulnérabilité…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1CAE-302A-4B6A-8D2B-482834632AB2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Bon usage des ressourc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(dialogue / médecin régulateur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ouleur thoracique, AVC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6F30-80F8-4375-9A54-DB99A6B09BD0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ecteur Est (Gonesse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mur pédiatri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édecins correspondants de Sam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9C7F-03E9-430D-9F21-14B3E569B26A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326520" cy="115884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ravail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ingénie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quotidiennes liées à la circ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ariations liées à la charge de travail des équip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Saisonnalit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gistr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des cas graves pris en charge en plus de 30m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2F2B-78E2-4AFB-9202-B328D20FC434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Territoir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bain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ou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ux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as certain que le déficit soit plus important en zone rur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tuation du Vexin frança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e territoire est, certes,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ficitai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mais il est bie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eintur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d’établissements de santé (pas tous dans le 95) : Pontoise, Osny, L’Isle-Adam, Beaumont, Méru, Gisors, Vernon, Mantes, Meulan, Evecquemo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Vexi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ériurbai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et Vexin authentiquem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ur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08A2-250D-4795-9EEF-F05B1C302E8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DSA = (pour l’essentiel) SOS Médec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en PDSA =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délai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souvent dissuasif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’efficacité de la PDSA serait multipliée si les interventions de SOS Médecins étaient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ordonnée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e Centre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A103-8B8E-4A3F-AE28-3EFFD455A5F7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DSA = continuité des soins (hors PDS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cours au 15 inappropri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abinets médicaux :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ngés non coordonn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Périodes critiq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épondeur : renvoi au 1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recours au 15 pou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etour d’exam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ontinuité du traite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Nombreux passages aux urg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65736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5CEB-ADD5-4276-AD88-630054C12939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455400" cy="11588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a régulation médicale = outi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 progrès médical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égalité soci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’optimisation de l’emploi des ressources</a:t>
            </a:r>
            <a:br>
              <a:rPr sz="2400"/>
            </a:b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généralistes libéraux participent à la régulation médic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epuis dix ans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c’est un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succè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complémentarité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généralistes + urgent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lle pourrait être plus employé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ccès à la PDSA insuffisamment régulé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4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5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EDF9-B294-46F1-B2A9-07337447AF9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Des consultations non programmées se développent dans des établissements privés avec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s pompiers disposent d’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urgentistes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temps-ple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rupture du principe de complémentarité Samu-Sd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n’est pas sans ris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Ceci consomme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essource rare des urgentist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dans des dispositifs dont ce n’est pa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mission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rincipa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la médecine d'urgence est le rôle dévolu aux services d’urgence publics et privé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autorisés</a:t>
            </a:r>
            <a:r>
              <a:rPr b="0" lang="fr-FR" sz="2400" spc="-1" strike="noStrike">
                <a:solidFill>
                  <a:srgbClr val="d9d8cf"/>
                </a:solidFill>
                <a:latin typeface="Calibri"/>
              </a:rPr>
              <a:t> par l’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474840" indent="-29232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9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B340-4642-435A-95F2-ED9BD3C3BBEC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Titre 1" descr=""/>
          <p:cNvPicPr/>
          <p:nvPr/>
        </p:nvPicPr>
        <p:blipFill>
          <a:blip r:embed="rId2"/>
          <a:stretch/>
        </p:blipFill>
        <p:spPr>
          <a:xfrm>
            <a:off x="457200" y="208080"/>
            <a:ext cx="8418600" cy="541152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01680" y="3881520"/>
            <a:ext cx="8391600" cy="27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ZoneTexte 3"/>
          <p:cNvSpPr/>
          <p:nvPr/>
        </p:nvSpPr>
        <p:spPr>
          <a:xfrm>
            <a:off x="2674800" y="3013200"/>
            <a:ext cx="587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ncourager les généralistes à anticip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’urgence attendues ou prévisibles</a:t>
            </a: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mieux informer les patients de ce qui peut leur arriver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rédiger pour les malades chroniques des fiches de lia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s </a:t>
            </a:r>
            <a:r>
              <a:rPr b="0" lang="fr-FR" sz="2000" spc="-1" strike="noStrike">
                <a:solidFill>
                  <a:srgbClr val="ffff00"/>
                </a:solidFill>
                <a:latin typeface="Calibri"/>
              </a:rPr>
              <a:t>situations de fin de vi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7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31C9-4E1A-4234-8346-E9B616B2EA18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re 1" descr=""/>
          <p:cNvPicPr/>
          <p:nvPr/>
        </p:nvPicPr>
        <p:blipFill>
          <a:blip r:embed="rId2"/>
          <a:stretch/>
        </p:blipFill>
        <p:spPr>
          <a:xfrm>
            <a:off x="-6480" y="249120"/>
            <a:ext cx="9169560" cy="115884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456840" y="1646280"/>
            <a:ext cx="845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Renforcer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régulation médical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u Centre 15 et notamment la participation des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généralist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Aller plus loin dans la </a:t>
            </a:r>
            <a:r>
              <a:rPr b="0" lang="fr-FR" sz="2400" spc="-1" strike="noStrike">
                <a:solidFill>
                  <a:srgbClr val="ffff00"/>
                </a:solidFill>
                <a:latin typeface="Calibri"/>
              </a:rPr>
              <a:t>prescription téléphonique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par le Centre 15 (selon recommandations HA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Espace réservé de la date 3"/>
          <p:cNvSpPr/>
          <p:nvPr/>
        </p:nvSpPr>
        <p:spPr>
          <a:xfrm>
            <a:off x="3862440" y="6400800"/>
            <a:ext cx="470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b9bbb2"/>
                </a:solidFill>
                <a:latin typeface="Rockwell"/>
              </a:rPr>
              <a:t>30 mn / CNUH, 22 jan 2013 /  Marc Giroud</a:t>
            </a:r>
            <a:endParaRPr b="0" lang="en-US" sz="13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Espace réservé du pied de page 4"/>
          <p:cNvSpPr/>
          <p:nvPr/>
        </p:nvSpPr>
        <p:spPr>
          <a:xfrm>
            <a:off x="1295280" y="6400800"/>
            <a:ext cx="256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3" name="Espace réservé du numéro de diapositive 5"/>
          <p:cNvSpPr/>
          <p:nvPr/>
        </p:nvSpPr>
        <p:spPr>
          <a:xfrm>
            <a:off x="863928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A6BB-9D2E-4713-9BB1-65A2023A4403}" type="slidenum">
              <a:rPr b="0" lang="en-US" sz="1600" spc="-1" strike="noStrike">
                <a:solidFill>
                  <a:srgbClr val="f5f3ea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10:44Z</dcterms:created>
  <dc:creator>Marc GIROUD</dc:creator>
  <dc:description/>
  <dc:language>en-US</dc:language>
  <cp:lastModifiedBy>CHRD</cp:lastModifiedBy>
  <dcterms:modified xsi:type="dcterms:W3CDTF">2013-02-28T11:09:46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